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8A4-0CC4-478C-843F-36829FA6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4D4-DD95-4FB6-922F-7376DE4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43D-F26F-45E7-84F7-EC175E86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419-1447-4935-8465-8A4EEF0B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1AE-BADA-49F5-8A03-754AE562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B2D-4572-4BB5-87E0-2F20EF7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4A3-70BF-4A06-B2E1-7685FE53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081-4976-4906-A57B-2723FE75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DF1-F56B-4D9C-9C4C-72704D6E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0D6-2E9D-47D3-ADF2-5B75CA0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20A-9FDB-4572-85D1-6E63DFEA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9A8-B041-4B9B-B057-64CF55E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4194-8D53-48A4-9927-C1EE721D2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 – Lab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Use Case Dia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s what the main functionality of the system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cares for the system’s expected behavior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do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ase Diagram: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or specifies a role that some external entity adopts when interacting with the system direc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present a role played b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us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ece of hardw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ors may be both at input and output ends of a use c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884320" y="4952880"/>
            <a:ext cx="4583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iagram: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C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all the services required or performed by the a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3733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uct a use case diagram for a library management system. The system is used by the librarian, the assistant librarian and the cli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ian, can add books, delete books, add clients, delete clients, list books, list clients, 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ssistant librarian has all the functionality of the librarian except for add/delete for books and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ents may only 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 -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the 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k for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the user ca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k for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uct a use case diagram for a library management system. The system is used by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librari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assistant librari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ian, can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add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delete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add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delete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list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list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assistant librari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ll the functionality of the librarian except for add/delete for books and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y only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43000" y="819000"/>
            <a:ext cx="5058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a use case diagram for an online travel agency system. A new user can create a new profile with a username and a password. This profile can be changed at any time if the user wants. The user logs to the system using his/her username and passw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logging into the system, the user inquires about different flights. The user can book, change or cancel a flight reservation. This includes choosing a payment method, and making a pay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9:32:45Z</dcterms:created>
  <dc:creator>Soha</dc:creator>
  <dc:description/>
  <dc:language>en-US</dc:language>
  <cp:lastModifiedBy>Soha</cp:lastModifiedBy>
  <dcterms:modified xsi:type="dcterms:W3CDTF">2009-04-07T09:27:34Z</dcterms:modified>
  <cp:revision>6</cp:revision>
  <dc:subject/>
  <dc:title>Use Case Diagrams</dc:title>
</cp:coreProperties>
</file>